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F5C7D-C02A-4EBF-86A4-FFD0B2C4EE7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088C-CCD9-4B54-803B-7F49922089F6}"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B1CB-D054-406F-ACA7-3799AB49F529}"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F698-D73B-4126-8ABA-4E5DA1F400D3}"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F6AA-A54E-4430-A074-49B2302CAF0F}"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F6F6-F7A1-4605-A541-7CC66C697164}"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CB6C-E93F-4FDC-B24C-43756B6B263F}"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070AD-332C-4013-8AC8-EE8FBDF7D2B4}"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A88D6-23BF-45DE-B052-2238D1E7586E}"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1FDB-9287-4D31-A75D-0CF523D01400}"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9E145-5801-4EEC-B866-0A8B5B20005F}"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8E94-C6A9-45C0-8662-48DC4F0403C6}"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802C-35E8-4CB4-82E4-E185D62DC4B5}"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E2D38-29A0-43A7-A2A7-E8D79AEE0AD6}"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BD5F0-EDA5-4B1A-BBF5-2523A935A3CE}"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B782E-2D58-4166-AEF8-A9D80DA8F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2585F-9DF7-4A3F-94F2-61F52B2C0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EA424-A2BB-4279-8D6A-A035FDA57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35DBE-4847-414C-B2D4-C790A58F0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42B7F9-F02D-4E29-A0E2-6D4E5CAD5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C44F8-1762-43AE-A23E-E5BD4848C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80F73-2CED-4C67-872C-08A0C481F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FB2CE-99B2-41E4-AD62-D0778E2F3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8875E-2B31-41D6-8AAC-EFBDFF86D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B59C6-941E-459F-B31F-D1DC5E1B5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A0094-4FB0-4F6A-A8E3-6E9AC6E16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56BA2-028D-4E70-A1A4-F7FF35CB4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CBBA7-11A3-4488-B603-848D5F62F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0774F-D6B3-4DD5-8188-71B98718E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2997B-27FF-4796-8DE7-5BBF73153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AC9C4-00C5-494A-820F-46A265DC2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517A6-4EF6-4BDB-93C1-BAF3530E6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4B29728-9886-45A4-8247-8225A77EE1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F4A09DF-58BC-4640-895D-119CE8D44C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FDC08A2-ACC7-49A2-BAC1-FA91B164F3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BF06CBC-51B6-462D-B49A-5DAB7D0D39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F0B7D68-3014-4A2D-877D-F5D2BD82F6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113A1-D2E2-4DB8-B359-B42BD4579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9010D27-3548-4DA0-A75B-8188E1AC98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526817B-DCD9-4D0B-BAB9-778444D7DC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305508A-5572-45EE-8716-ABE59FBAA2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83C345F-4B36-4BAD-ABE0-58FD4697D5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A74156C-39E5-4390-84E7-9C564160F0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CD009B9-7AD2-45C9-8C09-F69749EAAF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4AB61EA-3CF8-495E-B79D-3C87E5EBED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49BBEDF-06D4-4529-9406-34F23BFD9D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A0141D2-9ABA-47DC-AC42-4F0AADA6AB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4F9ED23-1C6F-4FA7-898D-146AC3098D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D806A-4E53-497F-A3C5-032226CDD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A782079-F146-4196-B774-FBEF2891AE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D38C55B-862B-48E5-971D-84EF77409F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8047BB1-2960-4A52-8392-A831E7EC2C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DE6C2B7-0B16-4741-86DC-650B57F938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43C1333-A2E1-4CB4-A918-E18D3209BC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7C871B3-3D6E-408D-B9A5-B251698E6D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0E3CBD1-910C-47CD-B55B-65821D5B69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6E04125-00AE-4D54-9C97-3BA3A268F8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8CA5659-DD33-4B78-8416-2F8A67C604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1054E98-EE11-42DF-BB6E-5794716331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D5C2D-C3CE-46E7-AF6F-3D15F3A17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F8BEB45-05A2-4A56-B1B1-83406612BB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9B8948D-8902-4635-9DCA-FE3467FE40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E9B9FF3-FBAC-4509-B716-E5FC0DC94C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8B6EE2A-53B3-41B9-9FF0-B78CBE3419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58E586D-7279-4F5A-B7D4-061178190D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71FC5F-6A34-48D2-B0B2-9116BAE4BB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10D9074-AFB3-449E-9FD1-D738180DA7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601FC69-28BC-4062-A6CB-98796FA78E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4CE309E-462A-4553-B808-E453FFF645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AE0535A-885F-4A71-83CD-B5D5E61049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DDDFB-0D40-4FFA-9791-A95A8C3FB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8985B5C-ACA5-409D-9304-49F229EFE5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ACB6DE-8891-4C81-AD2C-F8B0801B1A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A89C18-829B-4862-BE94-B4BFD38850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389153-E7F4-4E6F-9066-7042F1ADEF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3C150B-3C04-4504-B460-0F1ACD13B5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E4AAFB-3328-4E80-B678-8B6F549543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77BCC3-37B5-4AC0-9B8E-D12FD69946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AF1977-368E-4E46-8005-40065B087A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52AB17-12B2-44BD-9717-C9CFE387CC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2924A0-638C-42B6-ABEF-B51B26DFA3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ECFA1-250E-4758-993A-C2A856779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A9A8B0-D9BB-4C86-9FBB-926B913FA9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536996-6248-4C07-92C0-E9F1070D2F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9F5CEB-4F9F-4A86-BA63-40D7AA5CF1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D5827B4-EF02-4B46-AB50-B2A8C280AA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8D77087-ADCA-4BA4-9FA8-B347B7E277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ED3CD1B-F709-4733-8F33-0E8DEC7102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821EF0D-04EB-44E9-9A1D-3FB93F57CF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DFD4295-F395-4E5F-A429-C41FD325DA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BE1FCBA-5459-45F2-A4C2-3905094F2A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4777408-AAE2-4A32-8040-BAEB6B5A5A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CD271-F2B6-481B-84EA-3B4880B22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01D30FD-BFF1-4074-8B17-45EA60A1DF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693956F-3D84-42A2-88A3-ACEC0E01F3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4C976AF-E59E-4D7E-9922-7645DF5D65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BE973C3-D5DC-4A34-A4D6-BAB9E6B47F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6ED4B3D-5D66-46FF-81BF-F2D74450DF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8C5F1B-4444-4CF9-9C17-1EBBA89FB7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6E454E-A94F-4F36-B14C-4A6074755C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3900EC-C99F-4E87-B4DC-2293B9619C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138F2E-764D-4150-8858-988F4EAD76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FB2BA1-0E3F-40AE-A8CA-5CBB7C0B58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1F3FF-D7FD-473A-B3B8-22B3337B5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3026EC-0B4C-4C98-BB34-603C34BA5E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514390-3A95-48F9-A25C-A18F57FE6F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CD6CC3-E111-4A01-A801-85F6590CFC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BDA431-EBC4-452D-B1FD-1B448C90A3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2AC069-E901-4840-A563-FE99924DB2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7E612B-EF14-4894-8F6A-51B074C2D1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DFF22E-BE40-4B0C-BA66-9FBF1C0F1A8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18190-CEFB-4544-9C8E-A3C68F9BCF2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FBF8B-D74A-43B8-83A1-D595D1F53C97}"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CFD8-31A5-4AF7-8CD7-5A9D8335B8EA}"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C0A23-1E90-4BEA-AE2E-DA5CB54F6E6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13B8-1A8D-48B8-BCC4-4F5D0B8E83B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021D-8CD4-4B45-8211-C37DCB57256B}"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2096B-4D35-4721-8628-FEB14EE86876}"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FB6F0-15EC-4594-BEB4-B42336BBCE0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dc3"/>
                </a:solidFill>
                <a:latin typeface="Tw Cen MT"/>
              </a:rPr>
              <a:t>EFFECTS OF REWARDS AND INCENTIVES ON INTRINSIC MOTIVATION OF STUDENTS</a:t>
            </a:r>
            <a:endParaRPr b="0" lang="en-US" sz="36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Action Research Project by Cassandra Caceres 7021T Fall 2010</a:t>
            </a:r>
            <a:endParaRPr b="0" lang="en-US" sz="2000" spc="-1" strike="noStrike">
              <a:solidFill>
                <a:srgbClr val="ffffff"/>
              </a:solidFill>
              <a:latin typeface="Tw Cen MT"/>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view of Related Literature </a:t>
            </a:r>
            <a:r>
              <a:rPr b="0" lang="en-US" sz="4400" spc="-1" strike="noStrike">
                <a:solidFill>
                  <a:srgbClr val="ff0000"/>
                </a:solidFill>
                <a:latin typeface="Tw Cen MT"/>
              </a:rPr>
              <a:t>CONS</a:t>
            </a:r>
            <a:endParaRPr b="0" lang="en-US" sz="4400" spc="-1" strike="noStrike">
              <a:solidFill>
                <a:srgbClr val="775f55"/>
              </a:solidFill>
              <a:latin typeface="Tw Cen MT"/>
            </a:endParaRPr>
          </a:p>
        </p:txBody>
      </p:sp>
      <p:sp>
        <p:nvSpPr>
          <p:cNvPr id="384" name=""/>
          <p:cNvSpPr txBox="1"/>
          <p:nvPr/>
        </p:nvSpPr>
        <p:spPr>
          <a:xfrm>
            <a:off x="612720" y="1600200"/>
            <a:ext cx="8153280" cy="4495680"/>
          </a:xfrm>
          <a:prstGeom prst="rect">
            <a:avLst/>
          </a:prstGeom>
          <a:noFill/>
          <a:ln w="0">
            <a:noFill/>
          </a:ln>
        </p:spPr>
        <p:txBody>
          <a:bodyPr lIns="90000" rIns="90000" tIns="46800" bIns="46800"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 “</a:t>
            </a:r>
            <a:r>
              <a:rPr b="0" lang="en-US" sz="1800" spc="-1" strike="noStrike">
                <a:solidFill>
                  <a:srgbClr val="000000"/>
                </a:solidFill>
                <a:latin typeface="Tw Cen MT"/>
              </a:rPr>
              <a:t>I have learned that assertive discipline is very effective when used consistently..I implemented a new discipline plan, reward system, and class-wide reward with much success. …..my mentor was completely supportive. …I was keeping very detailed documentations…I was constantly checking myself for consistency.” ‘ (Desiderio and Mullennix 2005)</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Research has demonstrated that DRO paired with edible reinforcement has reduced inappropriate behavior in children.” ( Daddario, Anhalt &amp; Barton 2007)</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 </a:t>
            </a:r>
            <a:r>
              <a:rPr b="0" lang="en-US" sz="1800" spc="-1" strike="noStrike">
                <a:solidFill>
                  <a:srgbClr val="000000"/>
                </a:solidFill>
                <a:latin typeface="Tw Cen MT"/>
              </a:rPr>
              <a:t>To merely </a:t>
            </a:r>
            <a:r>
              <a:rPr b="0" i="1" lang="en-US" sz="1800" spc="-1" strike="noStrike">
                <a:solidFill>
                  <a:srgbClr val="000000"/>
                </a:solidFill>
                <a:latin typeface="Tw Cen MT"/>
              </a:rPr>
              <a:t>suppose</a:t>
            </a:r>
            <a:r>
              <a:rPr b="0" lang="en-US" sz="1800" spc="-1" strike="noStrike">
                <a:solidFill>
                  <a:srgbClr val="000000"/>
                </a:solidFill>
                <a:latin typeface="Tw Cen MT"/>
              </a:rPr>
              <a:t> or </a:t>
            </a:r>
            <a:r>
              <a:rPr b="0" i="1" lang="en-US" sz="1800" spc="-1" strike="noStrike">
                <a:solidFill>
                  <a:srgbClr val="000000"/>
                </a:solidFill>
                <a:latin typeface="Tw Cen MT"/>
              </a:rPr>
              <a:t>expect</a:t>
            </a:r>
            <a:r>
              <a:rPr b="0" lang="en-US" sz="1800" spc="-1" strike="noStrike">
                <a:solidFill>
                  <a:srgbClr val="000000"/>
                </a:solidFill>
                <a:latin typeface="Tw Cen MT"/>
              </a:rPr>
              <a:t> academic behaviors, while failing to reward academic behaviors  when they occur, sends a mixed message that assigned academic behavior is important but not important enough to reward.  ( Skinner, Williams &amp; Neddenriep, 2004)</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ifted classes and well performing students are not swayed by material reward in fact they participation and performance only is enhanced as long as the lessons are interesting and elements such as competition are present ( Cropper 1998; Vansteenkiste, Timmerman &amp; Lens 2008; DeVahl, King &amp; Williamson 2005). </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914040" y="2743200"/>
            <a:ext cx="8001000" cy="358128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75f55"/>
                </a:solidFill>
                <a:latin typeface="Tw Cen MT"/>
              </a:rPr>
              <a:t>Will administer the same three day Unit ( 3 lessons) to 2 general education Kindergarten classes at Public School X. Class A will receive the promise of a reward in advance as an incentive to cooperate with and participate in the lessons. Class B will receive no promise of a reward or prize only praise and acknowledgement and other non contingent rewards for will be shown for their cooperation.  At the end of each lesson Class A will receive the reward which they are to be promised. At the end of the Unit both classes will be assigned a student centered assessment. At this time we will measure and compare the difference in the amount of cooperation received from Class and Class B. </a:t>
            </a:r>
            <a:endParaRPr b="0" lang="en-US" sz="2200" spc="-1" strike="noStrike">
              <a:solidFill>
                <a:srgbClr val="000000"/>
              </a:solidFill>
              <a:latin typeface="Tw Cen MT"/>
            </a:endParaRPr>
          </a:p>
        </p:txBody>
      </p:sp>
      <p:sp>
        <p:nvSpPr>
          <p:cNvPr id="386"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Statement of the Hypothesis (Hr)</a:t>
            </a:r>
            <a:endParaRPr b="0" lang="en-US" sz="4400" spc="-1" strike="noStrike">
              <a:solidFill>
                <a:srgbClr val="775f55"/>
              </a:solidFill>
              <a:latin typeface="Tw Cen MT"/>
            </a:endParaRPr>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FERENCES</a:t>
            </a:r>
            <a:endParaRPr b="0" lang="en-US" sz="4400" spc="-1" strike="noStrike">
              <a:solidFill>
                <a:srgbClr val="775f55"/>
              </a:solidFill>
              <a:latin typeface="Tw Cen MT"/>
            </a:endParaRPr>
          </a:p>
        </p:txBody>
      </p:sp>
      <p:sp>
        <p:nvSpPr>
          <p:cNvPr id="388" name=""/>
          <p:cNvSpPr txBox="1"/>
          <p:nvPr/>
        </p:nvSpPr>
        <p:spPr>
          <a:xfrm>
            <a:off x="609120" y="1523880"/>
            <a:ext cx="8153640" cy="472464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oods, R.  (2008) When rewards and sanctions fail: a case study of a   primary school rule-breaker.  </a:t>
            </a:r>
            <a:r>
              <a:rPr b="0" i="1" lang="en-US" sz="1800" spc="-1" strike="noStrike">
                <a:solidFill>
                  <a:srgbClr val="000000"/>
                </a:solidFill>
                <a:latin typeface="Tw Cen MT"/>
              </a:rPr>
              <a:t>International Journal of Qualitative Studies in Education</a:t>
            </a:r>
            <a:r>
              <a:rPr b="0" lang="en-US" sz="1800" spc="-1" strike="noStrike">
                <a:solidFill>
                  <a:srgbClr val="000000"/>
                </a:solidFill>
                <a:latin typeface="Tw Cen MT"/>
              </a:rPr>
              <a:t>.  Vol.21. 181-196. Doi: 10.1080/09518390701868979.</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Docan, T.  (2006) Positive and negative incentives in the classroom: an analysis of grading systems and student motivation.  </a:t>
            </a:r>
            <a:r>
              <a:rPr b="0" i="1" lang="en-US" sz="1800" spc="-1" strike="noStrike">
                <a:solidFill>
                  <a:srgbClr val="000000"/>
                </a:solidFill>
                <a:latin typeface="Tw Cen MT"/>
              </a:rPr>
              <a:t>Journal of Scholarship of Teaching and Learning.</a:t>
            </a:r>
            <a:r>
              <a:rPr b="0" lang="en-US" sz="1800" spc="-1" strike="noStrike">
                <a:solidFill>
                  <a:srgbClr val="000000"/>
                </a:solidFill>
                <a:latin typeface="Tw Cen MT"/>
              </a:rPr>
              <a:t>  Vol. 6.  October 2006. 21-40.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offman, L.L,  Hutchinson, C.J.,  Reiss, E.  (2009).  On improving school climate: reducing reliance on rewards and punishment. I</a:t>
            </a:r>
            <a:r>
              <a:rPr b="0" i="1" lang="en-US" sz="1800" spc="-1" strike="noStrike">
                <a:solidFill>
                  <a:srgbClr val="000000"/>
                </a:solidFill>
                <a:latin typeface="Tw Cen MT"/>
              </a:rPr>
              <a:t>nternational Journal of whole schooling. </a:t>
            </a:r>
            <a:r>
              <a:rPr b="0" lang="en-US" sz="1800" spc="-1" strike="noStrike">
                <a:solidFill>
                  <a:srgbClr val="000000"/>
                </a:solidFill>
                <a:latin typeface="Tw Cen MT"/>
              </a:rPr>
              <a:t>Vol. 5</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siderio, M.F.,  Mullennix, C. (2005). Two behavior management systems, one classroom: can elementary students adapt?  </a:t>
            </a:r>
            <a:r>
              <a:rPr b="0" i="1" lang="en-US" sz="1800" spc="-1" strike="noStrike">
                <a:solidFill>
                  <a:srgbClr val="000000"/>
                </a:solidFill>
                <a:latin typeface="Tw Cen MT"/>
              </a:rPr>
              <a:t>The Educational Forum.</a:t>
            </a:r>
            <a:r>
              <a:rPr b="0" lang="en-US" sz="1800" spc="-1" strike="noStrike">
                <a:solidFill>
                  <a:srgbClr val="000000"/>
                </a:solidFill>
                <a:latin typeface="Tw Cen MT"/>
              </a:rPr>
              <a:t>  Vol. 69.383-391.</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Marshall, M.  (2005).  Discipline without stress, punishments, or rewards.  </a:t>
            </a:r>
            <a:r>
              <a:rPr b="0" i="1" lang="en-US" sz="1800" spc="-1" strike="noStrike">
                <a:solidFill>
                  <a:srgbClr val="000000"/>
                </a:solidFill>
                <a:latin typeface="Tw Cen MT"/>
              </a:rPr>
              <a:t>The Clearing House.</a:t>
            </a:r>
            <a:r>
              <a:rPr b="0" lang="en-US" sz="1800" spc="-1" strike="noStrike">
                <a:solidFill>
                  <a:srgbClr val="000000"/>
                </a:solidFill>
                <a:latin typeface="Tw Cen MT"/>
              </a:rPr>
              <a:t> Vol. 79.  51-54.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Angeleque Akin-Little. K.,  Eckert. T.L.,  Lovett, B.J.,  Little, S.G. (2004) Extrinsic reinforcement in the classroom</a:t>
            </a:r>
            <a:r>
              <a:rPr b="0" lang="en-US" sz="2000" spc="-1" strike="noStrike">
                <a:solidFill>
                  <a:srgbClr val="000000"/>
                </a:solidFill>
                <a:latin typeface="Tw Cen MT"/>
              </a:rPr>
              <a:t>: bribery or best practice.  </a:t>
            </a:r>
            <a:r>
              <a:rPr b="0" i="1" lang="en-US" sz="2000" spc="-1" strike="noStrike">
                <a:solidFill>
                  <a:srgbClr val="000000"/>
                </a:solidFill>
                <a:latin typeface="Tw Cen MT"/>
              </a:rPr>
              <a:t>School Psychology Review.</a:t>
            </a:r>
            <a:r>
              <a:rPr b="0" lang="en-US" sz="2000" spc="-1" strike="noStrike">
                <a:solidFill>
                  <a:srgbClr val="000000"/>
                </a:solidFill>
                <a:latin typeface="Tw Cen MT"/>
              </a:rPr>
              <a:t>  Vol. 33. 322-362.</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FERENCES</a:t>
            </a:r>
            <a:endParaRPr b="0" lang="en-US" sz="4400" spc="-1" strike="noStrike">
              <a:solidFill>
                <a:srgbClr val="775f55"/>
              </a:solidFill>
              <a:latin typeface="Tw Cen MT"/>
            </a:endParaRPr>
          </a:p>
        </p:txBody>
      </p:sp>
      <p:sp>
        <p:nvSpPr>
          <p:cNvPr id="390"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Mader, Cynthia E. (2009). “I will never teach the old way again” :classroom management and  external incentives. </a:t>
            </a:r>
            <a:r>
              <a:rPr b="0" i="1" lang="en-US" sz="1500" spc="-1" strike="noStrike">
                <a:solidFill>
                  <a:srgbClr val="000000"/>
                </a:solidFill>
                <a:latin typeface="Tw Cen MT"/>
              </a:rPr>
              <a:t>Theory Into Practice.</a:t>
            </a:r>
            <a:r>
              <a:rPr b="0" lang="en-US" sz="1500" spc="-1" strike="noStrike">
                <a:solidFill>
                  <a:srgbClr val="000000"/>
                </a:solidFill>
                <a:latin typeface="Tw Cen MT"/>
              </a:rPr>
              <a:t>v 48.    </a:t>
            </a:r>
            <a:endParaRPr b="0" lang="en-US" sz="1500" spc="-1" strike="noStrike">
              <a:solidFill>
                <a:srgbClr val="000000"/>
              </a:solidFill>
              <a:latin typeface="Tw Cen MT"/>
            </a:endParaRPr>
          </a:p>
          <a:p>
            <a:pPr marL="30600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a:t>
            </a:r>
            <a:r>
              <a:rPr b="0" lang="en-US" sz="1500" spc="-1" strike="noStrike">
                <a:solidFill>
                  <a:srgbClr val="000000"/>
                </a:solidFill>
                <a:latin typeface="Tw Cen MT"/>
              </a:rPr>
              <a:t>147-155.Doi:10.1080/00405840902776483.</a:t>
            </a:r>
            <a:endParaRPr b="0" lang="en-US" sz="1500" spc="-1" strike="noStrike">
              <a:solidFill>
                <a:srgbClr val="000000"/>
              </a:solidFill>
              <a:latin typeface="Tw Cen MT"/>
            </a:endParaRPr>
          </a:p>
          <a:p>
            <a:pPr marL="30600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Hall, P.S. (2009) Beyond Rewards. </a:t>
            </a:r>
            <a:r>
              <a:rPr b="0" i="1" lang="en-US" sz="1500" spc="-1" strike="noStrike">
                <a:solidFill>
                  <a:srgbClr val="000000"/>
                </a:solidFill>
                <a:latin typeface="Tw Cen MT"/>
              </a:rPr>
              <a:t>Reclaiming Children and Youth. </a:t>
            </a:r>
            <a:r>
              <a:rPr b="0" lang="en-US" sz="1500" spc="-1" strike="noStrike">
                <a:solidFill>
                  <a:srgbClr val="000000"/>
                </a:solidFill>
                <a:latin typeface="Tw Cen MT"/>
              </a:rPr>
              <a:t>Vol. 18. 49-53.</a:t>
            </a:r>
            <a:endParaRPr b="0" lang="en-US" sz="1500" spc="-1" strike="noStrike">
              <a:solidFill>
                <a:srgbClr val="000000"/>
              </a:solidFill>
              <a:latin typeface="Tw Cen MT"/>
            </a:endParaRPr>
          </a:p>
          <a:p>
            <a:pPr marL="30600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Daddario, R.,  Anhalt, K.,  Barton, L.E. (2007).  Differential reinforcement of other behavior applied classwide in a child care setting.  </a:t>
            </a:r>
            <a:r>
              <a:rPr b="0" i="1" lang="en-US" sz="1500" spc="-1" strike="noStrike">
                <a:solidFill>
                  <a:srgbClr val="000000"/>
                </a:solidFill>
                <a:latin typeface="Tw Cen MT"/>
              </a:rPr>
              <a:t>International Journal of Behavioral Consultation and Therapy.</a:t>
            </a:r>
            <a:r>
              <a:rPr b="0" lang="en-US" sz="1500" spc="-1" strike="noStrike">
                <a:solidFill>
                  <a:srgbClr val="000000"/>
                </a:solidFill>
                <a:latin typeface="Tw Cen MT"/>
              </a:rPr>
              <a:t>  Vol. 3. 342-348. </a:t>
            </a:r>
            <a:endParaRPr b="0" lang="en-US" sz="1500" spc="-1" strike="noStrike">
              <a:solidFill>
                <a:srgbClr val="000000"/>
              </a:solidFill>
              <a:latin typeface="Tw Cen MT"/>
            </a:endParaRPr>
          </a:p>
          <a:p>
            <a:pPr marL="30600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Skinner, C.H.,  Williams, R.L.,  Neddenriep, C.E. (2004). </a:t>
            </a:r>
            <a:r>
              <a:rPr b="0" i="1" lang="en-US" sz="1500" spc="-1" strike="noStrike">
                <a:solidFill>
                  <a:srgbClr val="000000"/>
                </a:solidFill>
                <a:latin typeface="Tw Cen MT"/>
              </a:rPr>
              <a:t>School Psychology Review.</a:t>
            </a:r>
            <a:r>
              <a:rPr b="0" lang="en-US" sz="1500" spc="-1" strike="noStrike">
                <a:solidFill>
                  <a:srgbClr val="000000"/>
                </a:solidFill>
                <a:latin typeface="Tw Cen MT"/>
              </a:rPr>
              <a:t> Vol.33. Retrieved from ERIC Database. </a:t>
            </a:r>
            <a:endParaRPr b="0" lang="en-US" sz="15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Gable, R.A., Hester, P.H., Rock, M.L., Hughes, K.G. (2009).  Back to basics: rules, praise, </a:t>
            </a:r>
            <a:endParaRPr b="0" lang="en-US" sz="16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ignoring, and reprimands revisited. </a:t>
            </a:r>
            <a:r>
              <a:rPr b="0" i="1" lang="en-US" sz="1600" spc="-1" strike="noStrike">
                <a:solidFill>
                  <a:srgbClr val="000000"/>
                </a:solidFill>
                <a:latin typeface="Tw Cen MT"/>
              </a:rPr>
              <a:t>Intervention in school and clinic</a:t>
            </a:r>
            <a:r>
              <a:rPr b="0" lang="en-US" sz="1600" spc="-1" strike="noStrike">
                <a:solidFill>
                  <a:srgbClr val="000000"/>
                </a:solidFill>
                <a:latin typeface="Tw Cen MT"/>
              </a:rPr>
              <a:t>. Vol.44.  no.4. 195-205. Doi: 10.1177/105345120832883</a:t>
            </a:r>
            <a:endParaRPr b="0" lang="en-US" sz="16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Kohn, A.  Punished by rewards.  1993. New York,NY.  Houghton Mifflin Company.</a:t>
            </a:r>
            <a:endParaRPr b="0" lang="en-US" sz="16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Peterson-Nelson, J.A.,  Caldarella, P., Young, K.R.,  Webb, N. (2008). Using peer praise </a:t>
            </a:r>
            <a:endParaRPr b="0" lang="en-US" sz="16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notes to increase the social involvements of withdrawn adolescents. </a:t>
            </a:r>
            <a:r>
              <a:rPr b="0" i="1" lang="en-US" sz="1600" spc="-1" strike="noStrike">
                <a:solidFill>
                  <a:srgbClr val="000000"/>
                </a:solidFill>
                <a:latin typeface="Tw Cen MT"/>
              </a:rPr>
              <a:t>Teaching </a:t>
            </a:r>
            <a:endParaRPr b="0" lang="en-US" sz="16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w Cen MT"/>
              </a:rPr>
              <a:t>             </a:t>
            </a:r>
            <a:r>
              <a:rPr b="0" i="1" lang="en-US" sz="1600" spc="-1" strike="noStrike">
                <a:solidFill>
                  <a:srgbClr val="000000"/>
                </a:solidFill>
                <a:latin typeface="Tw Cen MT"/>
              </a:rPr>
              <a:t>exceptional children.</a:t>
            </a:r>
            <a:r>
              <a:rPr b="0" lang="en-US" sz="1600" spc="-1" strike="noStrike">
                <a:solidFill>
                  <a:srgbClr val="000000"/>
                </a:solidFill>
                <a:latin typeface="Tw Cen MT"/>
              </a:rPr>
              <a:t> Vol. 41. No. 2. pp 6-13.</a:t>
            </a:r>
            <a:endParaRPr b="0" lang="en-US" sz="16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oore-Partin, T.C., Robertson, R.E., Maggin, D. M., Oliver, R. M., Wheby, J.H. (2010). </a:t>
            </a:r>
            <a:endParaRPr b="0" lang="en-US" sz="16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Using teacher praise and opportunities to respond to promote appropriate student </a:t>
            </a:r>
            <a:endParaRPr b="0" lang="en-US" sz="16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behavior. </a:t>
            </a:r>
            <a:r>
              <a:rPr b="0" i="1" lang="en-US" sz="1600" spc="-1" strike="noStrike">
                <a:solidFill>
                  <a:srgbClr val="000000"/>
                </a:solidFill>
                <a:latin typeface="Tw Cen MT"/>
              </a:rPr>
              <a:t>Preventing school failure. </a:t>
            </a:r>
            <a:r>
              <a:rPr b="0" lang="en-US" sz="1600" spc="-1" strike="noStrike">
                <a:solidFill>
                  <a:srgbClr val="000000"/>
                </a:solidFill>
                <a:latin typeface="Tw Cen MT"/>
              </a:rPr>
              <a:t>Vol. 54. pp 172-178. Doi      1080/10459880903493179.</a:t>
            </a:r>
            <a:endParaRPr b="0" lang="en-US" sz="1600" spc="-1" strike="noStrike">
              <a:solidFill>
                <a:srgbClr val="000000"/>
              </a:solidFill>
              <a:latin typeface="Tw Cen MT"/>
            </a:endParaRPr>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toremont, M.A., Smith, S.C., Lewis, T.J. (2007).  Teacher implementation of precorrection  and praise statements in head start classrooms as a component of a program-wide  system of positive behavior support. </a:t>
            </a:r>
            <a:r>
              <a:rPr b="0" i="1" lang="en-US" sz="1800" spc="-1" strike="noStrike">
                <a:solidFill>
                  <a:srgbClr val="000000"/>
                </a:solidFill>
                <a:latin typeface="Tw Cen MT"/>
              </a:rPr>
              <a:t>J Behavioral Educatio.  </a:t>
            </a:r>
            <a:r>
              <a:rPr b="0" lang="en-US" sz="1800" spc="-1" strike="noStrike">
                <a:solidFill>
                  <a:srgbClr val="000000"/>
                </a:solidFill>
                <a:latin typeface="Tw Cen MT"/>
              </a:rPr>
              <a:t>Vol. 16.  pp 280- 290. Doi: 10.1007/s10864-007 9040-3.</a:t>
            </a:r>
            <a:endParaRPr b="0" lang="en-US" sz="1800" spc="-1" strike="noStrike">
              <a:solidFill>
                <a:srgbClr val="000000"/>
              </a:solidFill>
              <a:latin typeface="Tw Cen MT"/>
            </a:endParaRPr>
          </a:p>
          <a:p>
            <a:pPr marL="3027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olinder, D.M, Choi, H., Proctor, T.B. (2004). Using delayed praise as a directive and its </a:t>
            </a:r>
            <a:endParaRPr b="0" lang="en-US" sz="1800" spc="-1" strike="noStrike">
              <a:solidFill>
                <a:srgbClr val="000000"/>
              </a:solidFill>
              <a:latin typeface="Tw Cen MT"/>
            </a:endParaRPr>
          </a:p>
          <a:p>
            <a:pPr marL="3027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effectiveness on on-task behavior. </a:t>
            </a:r>
            <a:r>
              <a:rPr b="0" i="1" lang="en-US" sz="1800" spc="-1" strike="noStrike">
                <a:solidFill>
                  <a:srgbClr val="000000"/>
                </a:solidFill>
                <a:latin typeface="Tw Cen MT"/>
              </a:rPr>
              <a:t>Journal of applied school psychology</a:t>
            </a:r>
            <a:r>
              <a:rPr b="0" lang="en-US" sz="1800" spc="-1" strike="noStrike">
                <a:solidFill>
                  <a:srgbClr val="000000"/>
                </a:solidFill>
                <a:latin typeface="Tw Cen MT"/>
              </a:rPr>
              <a:t>. Vol. </a:t>
            </a:r>
            <a:endParaRPr b="0" lang="en-US" sz="1800" spc="-1" strike="noStrike">
              <a:solidFill>
                <a:srgbClr val="000000"/>
              </a:solidFill>
              <a:latin typeface="Tw Cen MT"/>
            </a:endParaRPr>
          </a:p>
          <a:p>
            <a:pPr marL="3027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20 no.2 .pp 61-83.</a:t>
            </a:r>
            <a:endParaRPr b="0" lang="en-US" sz="1800" spc="-1" strike="noStrike">
              <a:solidFill>
                <a:srgbClr val="000000"/>
              </a:solidFill>
              <a:latin typeface="Tw Cen MT"/>
            </a:endParaRPr>
          </a:p>
          <a:p>
            <a:pPr marL="3027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Lannie, A. L., McCurdy, B.  L.(2007)  Preventing disruptive behavior in the urban </a:t>
            </a:r>
            <a:endParaRPr b="0" lang="en-US" sz="1800" spc="-1" strike="noStrike">
              <a:solidFill>
                <a:srgbClr val="000000"/>
              </a:solidFill>
              <a:latin typeface="Tw Cen MT"/>
            </a:endParaRPr>
          </a:p>
          <a:p>
            <a:pPr marL="3027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classroom: effects of the good behavior game on student and teacher </a:t>
            </a:r>
            <a:endParaRPr b="0" lang="en-US" sz="1800" spc="-1" strike="noStrike">
              <a:solidFill>
                <a:srgbClr val="000000"/>
              </a:solidFill>
              <a:latin typeface="Tw Cen MT"/>
            </a:endParaRPr>
          </a:p>
          <a:p>
            <a:pPr marL="3027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behavior. </a:t>
            </a:r>
            <a:r>
              <a:rPr b="0" i="1" lang="en-US" sz="1800" spc="-1" strike="noStrike">
                <a:solidFill>
                  <a:srgbClr val="000000"/>
                </a:solidFill>
                <a:latin typeface="Tw Cen MT"/>
              </a:rPr>
              <a:t>Education and Treatment of Children</a:t>
            </a:r>
            <a:r>
              <a:rPr b="0" lang="en-US" sz="1800" spc="-1" strike="noStrike">
                <a:solidFill>
                  <a:srgbClr val="000000"/>
                </a:solidFill>
                <a:latin typeface="Tw Cen MT"/>
              </a:rPr>
              <a:t>. v30.  No 1 pp85-98. </a:t>
            </a:r>
            <a:endParaRPr b="0" lang="en-US" sz="1800" spc="-1" strike="noStrike">
              <a:solidFill>
                <a:srgbClr val="000000"/>
              </a:solidFill>
              <a:latin typeface="Tw Cen MT"/>
            </a:endParaRPr>
          </a:p>
          <a:p>
            <a:pPr marL="3027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a:t>
            </a:r>
            <a:r>
              <a:rPr b="1" i="1" lang="en-US" sz="1800" spc="-1" strike="noStrike">
                <a:solidFill>
                  <a:srgbClr val="000000"/>
                </a:solidFill>
                <a:latin typeface="Tw Cen MT"/>
              </a:rPr>
              <a:t>EJ</a:t>
            </a:r>
            <a:r>
              <a:rPr b="0" lang="en-US" sz="1800" spc="-1" strike="noStrike">
                <a:solidFill>
                  <a:srgbClr val="000000"/>
                </a:solidFill>
                <a:latin typeface="Tw Cen MT"/>
              </a:rPr>
              <a:t>778090)</a:t>
            </a:r>
            <a:endParaRPr b="0" lang="en-US" sz="1800" spc="-1" strike="noStrike">
              <a:solidFill>
                <a:srgbClr val="000000"/>
              </a:solidFill>
              <a:latin typeface="Tw Cen MT"/>
            </a:endParaRPr>
          </a:p>
          <a:p>
            <a:pPr marL="3027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andura, A. (1994) Self Efficay. </a:t>
            </a:r>
            <a:r>
              <a:rPr b="0" i="1" lang="en-US" sz="1800" spc="-1" strike="noStrike">
                <a:solidFill>
                  <a:srgbClr val="000000"/>
                </a:solidFill>
                <a:latin typeface="Tw Cen MT"/>
              </a:rPr>
              <a:t>Encyclopedia of human behavior.</a:t>
            </a:r>
            <a:r>
              <a:rPr b="0" lang="en-US" sz="1800" spc="-1" strike="noStrike">
                <a:solidFill>
                  <a:srgbClr val="000000"/>
                </a:solidFill>
                <a:latin typeface="Tw Cen MT"/>
              </a:rPr>
              <a:t> Vol. 4 pp 71-81.</a:t>
            </a:r>
            <a:endParaRPr b="0" lang="en-US" sz="1800" spc="-1" strike="noStrike">
              <a:solidFill>
                <a:srgbClr val="000000"/>
              </a:solidFill>
              <a:latin typeface="Tw Cen MT"/>
            </a:endParaRPr>
          </a:p>
          <a:p>
            <a:pPr marL="302760" indent="-3027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able of Contents</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Abstract</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w Cen MT"/>
              </a:rPr>
              <a:t>Introduction </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w Cen MT"/>
              </a:rPr>
              <a:t> </a:t>
            </a:r>
            <a:r>
              <a:rPr b="1" lang="en-US" sz="1500" spc="-1" strike="noStrike">
                <a:solidFill>
                  <a:srgbClr val="000000"/>
                </a:solidFill>
                <a:latin typeface="Tw Cen MT"/>
              </a:rPr>
              <a:t>- Statement of the Problem                                                                              4</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w Cen MT"/>
              </a:rPr>
              <a:t> </a:t>
            </a:r>
            <a:r>
              <a:rPr b="1" lang="en-US" sz="1500" spc="-1" strike="noStrike">
                <a:solidFill>
                  <a:srgbClr val="000000"/>
                </a:solidFill>
                <a:latin typeface="Tw Cen MT"/>
              </a:rPr>
              <a:t>- Review of Related Literature                                                                         6-10</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w Cen MT"/>
              </a:rPr>
              <a:t> </a:t>
            </a:r>
            <a:r>
              <a:rPr b="1" lang="en-US" sz="1500" spc="-1" strike="noStrike">
                <a:solidFill>
                  <a:srgbClr val="000000"/>
                </a:solidFill>
                <a:latin typeface="Tw Cen MT"/>
              </a:rPr>
              <a:t>- Statement of the Hypothesis                                                                          11</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Method                                                                                                          </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Participants (N)</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Instruments</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Experimental Design</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Procedure</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Results                                                                                                          </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Discussion                                                                                                      </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Implications                                                                                                   </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References                                                                                                     12-14                                                                                            </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Appendices                                                                                                   </a:t>
            </a:r>
            <a:endParaRPr b="0" lang="en-US" sz="1500" spc="-1" strike="noStrike">
              <a:solidFill>
                <a:srgbClr val="000000"/>
              </a:solidFill>
              <a:latin typeface="Tw Cen MT"/>
            </a:endParaRPr>
          </a:p>
          <a:p>
            <a:pPr marL="309240" indent="-3092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troduction</a:t>
            </a:r>
            <a:endParaRPr b="0" lang="en-US" sz="4400" spc="-1" strike="noStrike">
              <a:solidFill>
                <a:srgbClr val="775f55"/>
              </a:solidFill>
              <a:latin typeface="Tw Cen MT"/>
            </a:endParaRPr>
          </a:p>
        </p:txBody>
      </p:sp>
      <p:sp>
        <p:nvSpPr>
          <p:cNvPr id="362" name=""/>
          <p:cNvSpPr txBox="1"/>
          <p:nvPr/>
        </p:nvSpPr>
        <p:spPr>
          <a:xfrm>
            <a:off x="612720" y="1599840"/>
            <a:ext cx="8150400" cy="3352680"/>
          </a:xfrm>
          <a:prstGeom prst="rect">
            <a:avLst/>
          </a:prstGeom>
          <a:noFill/>
          <a:ln w="0">
            <a:noFill/>
          </a:ln>
        </p:spPr>
        <p:txBody>
          <a:bodyPr lIns="90000" rIns="90000" tIns="46800" bIns="46800"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Tw Cen MT"/>
              </a:rPr>
              <a:t>Importance of Eliminating Contingent Rewards</a:t>
            </a:r>
            <a:endParaRPr b="0" lang="en-US" sz="29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000" spc="-1" strike="noStrike">
                <a:solidFill>
                  <a:srgbClr val="000000"/>
                </a:solidFill>
                <a:latin typeface="Tw Cen MT"/>
              </a:rPr>
              <a:t>Educators must not just inform children about the world, teach them to read, to write, and to do arithmetic. They must also help equip children with the skills needed to participate in adult interactions. This is not done by doling out response-contingent awards. In fact rewards do just the opposite. Response –contingent rewards establish a power hierarchy. Teachers have the power and they use it to get children to comply with their expectations in order to get rewards. Subservience does not develop responsible adults. </a:t>
            </a:r>
            <a:endParaRPr b="0" lang="en-US" sz="2000" spc="-1" strike="noStrike">
              <a:solidFill>
                <a:srgbClr val="000000"/>
              </a:solidFill>
              <a:latin typeface="Tw Cen MT"/>
            </a:endParaRPr>
          </a:p>
          <a:p>
            <a:pPr marL="293400" indent="-293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all, 2009; Marshall 2005)</a:t>
            </a:r>
            <a:endParaRPr b="0" lang="en-US" sz="2000" spc="-1" strike="noStrike">
              <a:solidFill>
                <a:srgbClr val="000000"/>
              </a:solidFill>
              <a:latin typeface="Tw Cen MT"/>
            </a:endParaRPr>
          </a:p>
        </p:txBody>
      </p:sp>
      <p:pic>
        <p:nvPicPr>
          <p:cNvPr id="363" name="Picture 2" descr="http://3.bp.blogspot.com/_Nxe6lCLWKmk/SuVQ-yuol9I/AAAAAAAADw0/W540g8JZp4U/s400/MrP_NoCandy.jpg"/>
          <p:cNvPicPr/>
          <p:nvPr/>
        </p:nvPicPr>
        <p:blipFill>
          <a:blip r:embed="rId1"/>
          <a:stretch/>
        </p:blipFill>
        <p:spPr>
          <a:xfrm>
            <a:off x="3581280" y="4975200"/>
            <a:ext cx="2129040" cy="1882800"/>
          </a:xfrm>
          <a:prstGeom prst="rect">
            <a:avLst/>
          </a:prstGeom>
          <a:ln w="0">
            <a:noFill/>
          </a:ln>
        </p:spPr>
      </p:pic>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tatement of the Problem </a:t>
            </a:r>
            <a:endParaRPr b="0" lang="en-US" sz="4400" spc="-1" strike="noStrike">
              <a:solidFill>
                <a:srgbClr val="775f55"/>
              </a:solidFill>
              <a:latin typeface="Tw Cen MT"/>
            </a:endParaRPr>
          </a:p>
        </p:txBody>
      </p:sp>
      <p:sp>
        <p:nvSpPr>
          <p:cNvPr id="365" name=""/>
          <p:cNvSpPr txBox="1"/>
          <p:nvPr/>
        </p:nvSpPr>
        <p:spPr>
          <a:xfrm>
            <a:off x="612720" y="1599840"/>
            <a:ext cx="8153280" cy="3048120"/>
          </a:xfrm>
          <a:prstGeom prst="rect">
            <a:avLst/>
          </a:prstGeom>
          <a:noFill/>
          <a:ln w="0">
            <a:noFill/>
          </a:ln>
        </p:spPr>
        <p:txBody>
          <a:bodyPr lIns="90000" rIns="90000" tIns="46800" bIns="46800"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a:t>
            </a:r>
            <a:r>
              <a:rPr b="0" lang="en-US" sz="2400" spc="-1" strike="noStrike">
                <a:solidFill>
                  <a:srgbClr val="000000"/>
                </a:solidFill>
                <a:latin typeface="Tw Cen MT"/>
              </a:rPr>
              <a:t>In Queens Public School X, the use of external incentives is a frequent strategy used by teachers to attain the cooperation of students during instruction and throughout the day. Excessive use of such rewards reduces intrinsic motivation and desire to learn as students become blinded by a material reward. Teachers may find it more beneficial to alternate strategies of motivation and praise that do not include contingent rewards. </a:t>
            </a:r>
            <a:endParaRPr b="0" lang="en-US" sz="24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366" name="Picture 2" descr="http://www.funservicesinc.com/catalog/images/Fun%20Party%20Prizes%20&amp;%20Novelties.jpg"/>
          <p:cNvPicPr/>
          <p:nvPr/>
        </p:nvPicPr>
        <p:blipFill>
          <a:blip r:embed="rId1"/>
          <a:stretch/>
        </p:blipFill>
        <p:spPr>
          <a:xfrm>
            <a:off x="3505320" y="4781520"/>
            <a:ext cx="2447640" cy="1836720"/>
          </a:xfrm>
          <a:prstGeom prst="rect">
            <a:avLst/>
          </a:prstGeom>
          <a:ln w="0">
            <a:noFill/>
          </a:ln>
        </p:spPr>
      </p:pic>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1600200" y="5486040"/>
            <a:ext cx="7315200" cy="68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p:txBody>
      </p:sp>
      <p:sp>
        <p:nvSpPr>
          <p:cNvPr id="368" name="PlaceHolder 2"/>
          <p:cNvSpPr>
            <a:spLocks noGrp="1"/>
          </p:cNvSpPr>
          <p:nvPr>
            <p:ph type="title"/>
          </p:nvPr>
        </p:nvSpPr>
        <p:spPr>
          <a:xfrm>
            <a:off x="1600200" y="464796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Review of Related Literature</a:t>
            </a:r>
            <a:endParaRPr b="0" lang="en-US" sz="3600" spc="-1" strike="noStrike">
              <a:solidFill>
                <a:srgbClr val="775f55"/>
              </a:solidFill>
              <a:latin typeface="Tw Cen MT"/>
            </a:endParaRPr>
          </a:p>
        </p:txBody>
      </p:sp>
      <p:pic>
        <p:nvPicPr>
          <p:cNvPr id="369" name="Picture Placeholder 9" descr="research.jpg"/>
          <p:cNvPicPr/>
          <p:nvPr/>
        </p:nvPicPr>
        <p:blipFill>
          <a:blip r:embed="rId1"/>
          <a:srcRect l="0" t="7769" r="0" b="7769"/>
          <a:stretch/>
        </p:blipFill>
        <p:spPr>
          <a:xfrm>
            <a:off x="1560600" y="0"/>
            <a:ext cx="7583400" cy="4568760"/>
          </a:xfrm>
          <a:prstGeom prst="rect">
            <a:avLst/>
          </a:prstGeom>
          <a:ln w="0">
            <a:noFill/>
          </a:ln>
        </p:spPr>
      </p:pic>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3520" y="272520"/>
            <a:ext cx="815328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orists/Researchers</a:t>
            </a:r>
            <a:endParaRPr b="0" lang="en-US" sz="4400" spc="-1" strike="noStrike">
              <a:solidFill>
                <a:srgbClr val="775f55"/>
              </a:solidFill>
              <a:latin typeface="Tw Cen MT"/>
            </a:endParaRPr>
          </a:p>
        </p:txBody>
      </p:sp>
      <p:sp>
        <p:nvSpPr>
          <p:cNvPr id="371" name=""/>
          <p:cNvSpPr txBox="1"/>
          <p:nvPr/>
        </p:nvSpPr>
        <p:spPr>
          <a:xfrm>
            <a:off x="609120" y="2437920"/>
            <a:ext cx="3886200" cy="3581640"/>
          </a:xfrm>
          <a:prstGeom prst="rect">
            <a:avLst/>
          </a:prstGeom>
          <a:noFill/>
          <a:ln w="0">
            <a:noFill/>
          </a:ln>
        </p:spPr>
        <p:txBody>
          <a:bodyPr lIns="90000" rIns="90000" tIns="46800" bIns="46800" anchor="t">
            <a:normAutofit fontScale="99000"/>
          </a:bodyPr>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    “</a:t>
            </a:r>
            <a:r>
              <a:rPr b="0" lang="en-US" sz="1700" spc="-1" strike="noStrike">
                <a:solidFill>
                  <a:srgbClr val="000000"/>
                </a:solidFill>
                <a:latin typeface="Tw Cen MT"/>
              </a:rPr>
              <a:t>Rewards  are every bit as controlling as punishments, even if they control by seduction. If reward recipients feel controlled it is likely that  the experience will assume a punitive quality over the long run even though obtaining a reward itself is usually pleasurable (Kohn 1995).”</a:t>
            </a:r>
            <a:endParaRPr b="0" lang="en-US" sz="17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372" name=""/>
          <p:cNvSpPr txBox="1"/>
          <p:nvPr/>
        </p:nvSpPr>
        <p:spPr>
          <a:xfrm>
            <a:off x="4800240" y="2437920"/>
            <a:ext cx="3886200" cy="3581640"/>
          </a:xfrm>
          <a:prstGeom prst="rect">
            <a:avLst/>
          </a:prstGeom>
          <a:noFill/>
          <a:ln w="0">
            <a:noFill/>
          </a:ln>
        </p:spPr>
        <p:txBody>
          <a:bodyPr lIns="90000" rIns="90000" tIns="46800" bIns="46800" anchor="t">
            <a:normAutofit fontScale="94000"/>
          </a:bodyPr>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99520" indent="-299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299520" indent="-299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299520" indent="-299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     </a:t>
            </a:r>
            <a:r>
              <a:rPr b="0" lang="en-US" sz="1700" spc="-1" strike="noStrike">
                <a:solidFill>
                  <a:srgbClr val="000000"/>
                </a:solidFill>
                <a:latin typeface="Tw Cen MT"/>
              </a:rPr>
              <a:t>Self efficacy is defined as peoples beliefs about their capabilities to produce designated levels of performance that exercise influences that affect their lives. A strong sense of self efficacy enhances human accomplishment  and personal well being ( Bandura 1994).”</a:t>
            </a:r>
            <a:endParaRPr b="0" lang="en-US" sz="1700" spc="-1" strike="noStrike">
              <a:solidFill>
                <a:srgbClr val="000000"/>
              </a:solidFill>
              <a:latin typeface="Tw Cen MT"/>
            </a:endParaRPr>
          </a:p>
        </p:txBody>
      </p:sp>
      <p:sp>
        <p:nvSpPr>
          <p:cNvPr id="373" name="PlaceHolder 2"/>
          <p:cNvSpPr>
            <a:spLocks noGrp="1"/>
          </p:cNvSpPr>
          <p:nvPr>
            <p:ph/>
          </p:nvPr>
        </p:nvSpPr>
        <p:spPr>
          <a:xfrm>
            <a:off x="609120" y="1752120"/>
            <a:ext cx="3886200" cy="639720"/>
          </a:xfrm>
          <a:prstGeom prst="rect">
            <a:avLst/>
          </a:prstGeom>
          <a:solidFill>
            <a:srgbClr val="dd8047"/>
          </a:solidFill>
          <a:ln w="0">
            <a:noFill/>
          </a:ln>
        </p:spPr>
        <p:txBody>
          <a:bodyPr lIns="90000" rIns="90000" tIns="46800" bIns="46800" anchor="ctr">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lfie Kohn : Punished by Rewards</a:t>
            </a:r>
            <a:endParaRPr b="0" lang="en-US" sz="2000" spc="-1" strike="noStrike">
              <a:solidFill>
                <a:srgbClr val="000000"/>
              </a:solidFill>
              <a:latin typeface="Tw Cen MT"/>
            </a:endParaRPr>
          </a:p>
        </p:txBody>
      </p:sp>
      <p:sp>
        <p:nvSpPr>
          <p:cNvPr id="374" name="PlaceHolder 3"/>
          <p:cNvSpPr>
            <a:spLocks noGrp="1"/>
          </p:cNvSpPr>
          <p:nvPr>
            <p:ph/>
          </p:nvPr>
        </p:nvSpPr>
        <p:spPr>
          <a:xfrm>
            <a:off x="4800240" y="1752120"/>
            <a:ext cx="3886200" cy="639720"/>
          </a:xfrm>
          <a:prstGeom prst="rect">
            <a:avLst/>
          </a:prstGeom>
          <a:solidFill>
            <a:srgbClr val="d8b25c"/>
          </a:solidFill>
          <a:ln w="0">
            <a:noFill/>
          </a:ln>
        </p:spPr>
        <p:txBody>
          <a:bodyPr lIns="90000" rIns="90000" tIns="46800" bIns="468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lbert Bandura : Self Efficay</a:t>
            </a:r>
            <a:endParaRPr b="0" lang="en-US" sz="2000" spc="-1" strike="noStrike">
              <a:solidFill>
                <a:srgbClr val="000000"/>
              </a:solidFill>
              <a:latin typeface="Tw Cen MT"/>
            </a:endParaRPr>
          </a:p>
        </p:txBody>
      </p:sp>
      <p:pic>
        <p:nvPicPr>
          <p:cNvPr id="375" name="Picture 2" descr="http://www.alfiekohn.org/images/hm_alfie.jpg"/>
          <p:cNvPicPr/>
          <p:nvPr/>
        </p:nvPicPr>
        <p:blipFill>
          <a:blip r:embed="rId1"/>
          <a:stretch/>
        </p:blipFill>
        <p:spPr>
          <a:xfrm>
            <a:off x="2057400" y="2536920"/>
            <a:ext cx="1360440" cy="1225440"/>
          </a:xfrm>
          <a:prstGeom prst="rect">
            <a:avLst/>
          </a:prstGeom>
          <a:ln w="0">
            <a:noFill/>
          </a:ln>
        </p:spPr>
      </p:pic>
      <p:pic>
        <p:nvPicPr>
          <p:cNvPr id="376" name="Picture 4" descr="http://www.des.emory.edu/mfp/Bandura2004cA.jpg"/>
          <p:cNvPicPr/>
          <p:nvPr/>
        </p:nvPicPr>
        <p:blipFill>
          <a:blip r:embed="rId2"/>
          <a:stretch/>
        </p:blipFill>
        <p:spPr>
          <a:xfrm>
            <a:off x="6404040" y="2514600"/>
            <a:ext cx="987480" cy="1219320"/>
          </a:xfrm>
          <a:prstGeom prst="rect">
            <a:avLst/>
          </a:prstGeom>
          <a:ln w="0">
            <a:noFill/>
          </a:ln>
        </p:spPr>
      </p:pic>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view of Related Literature: </a:t>
            </a:r>
            <a:r>
              <a:rPr b="0" lang="en-US" sz="4400" spc="-1" strike="noStrike">
                <a:solidFill>
                  <a:srgbClr val="00b050"/>
                </a:solidFill>
                <a:latin typeface="Tw Cen MT"/>
              </a:rPr>
              <a:t>PROS</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tudents when required to take certain classes often bring an unmotivated and negative attitude .However, teachers who can facilitate interestingdiscussions and involve their students in activities may be able to motivate them to learn.(Docan,  2006;  Lepper. Corpus, &amp; Iyenger 2005).</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Since the use of Coercion engenders negative feelings, such external approaches are counterproductive to good relationships and are only effective temporarily.” (Marshall,  2005)</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xtrinsic motivation is that which prompts students to complete activities in lesson s as they are inspired by some form of a tangible reward. (Angeleque, Eckert, Lovett, &amp; Little 2004; Mader 2009)</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xternal motivators like treasure boxes, point systems, and other behavior tracking programs cannot be used. Children are motivated by: Caring, connection, contribution, and the empowerment of conflict resolution.” (Hoffman, Hutchinson, &amp; Reiss, 2009) </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t>
            </a:r>
            <a:r>
              <a:rPr b="0" lang="en-US" sz="1800" spc="-1" strike="noStrike">
                <a:solidFill>
                  <a:srgbClr val="000000"/>
                </a:solidFill>
                <a:latin typeface="Tw Cen MT"/>
              </a:rPr>
              <a:t>The behavior approach fails to allow for the responsibility that one act/event can signify in multiply ways, hugely complicating the response it will elicit in a particular child.” ( Woods, 2008).</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view of Related Literature: </a:t>
            </a:r>
            <a:r>
              <a:rPr b="0" lang="en-US" sz="4400" spc="-1" strike="noStrike">
                <a:solidFill>
                  <a:srgbClr val="00b050"/>
                </a:solidFill>
                <a:latin typeface="Tw Cen MT"/>
              </a:rPr>
              <a:t>PROS</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t>
            </a:r>
            <a:r>
              <a:rPr b="0" lang="en-US" sz="1800" spc="-1" strike="noStrike">
                <a:solidFill>
                  <a:srgbClr val="000000"/>
                </a:solidFill>
                <a:latin typeface="Tw Cen MT"/>
              </a:rPr>
              <a:t>External motivators like treasure boxes, point systems, and other behavior tracking programs cannot be used. Children are motivated by: Caring, connection, contribution, and the empowerment of conflict resolution.” (Hoffman, Hutchinson, &amp; Reiss, 2009)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t>
            </a:r>
            <a:r>
              <a:rPr b="0" lang="en-US" sz="1800" spc="-1" strike="noStrike">
                <a:solidFill>
                  <a:srgbClr val="000000"/>
                </a:solidFill>
                <a:latin typeface="Tw Cen MT"/>
              </a:rPr>
              <a:t>The behavior approach fails to allow for the responsibility that one act/event can signify in multiply ways, hugely complicating the response it will elicit in a particular child.” ( Woods, 2008).</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Verbal rewards are delivered immediately after the target behavior occurs, thereby increasing the likelihood that the behavior will be repeated. Tangible rewards are often delivered days or weeks after treatment, virtually ensuring a decrease in the occurrence of the targeted behavior. “( Arkin-Little, Eckert, Lovett, &amp; Little 2004).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t>
            </a:r>
            <a:r>
              <a:rPr b="0" lang="en-US" sz="1800" spc="-1" strike="noStrike">
                <a:solidFill>
                  <a:srgbClr val="000000"/>
                </a:solidFill>
                <a:latin typeface="Tw Cen MT"/>
              </a:rPr>
              <a:t>The more teachers can experience what motivates their students-or what fails to-the more they may recognize the constraints of traditional accountability and incentives systems.” ( Mader, 2009)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view of Related Literature: </a:t>
            </a:r>
            <a:r>
              <a:rPr b="0" lang="en-US" sz="4400" spc="-1" strike="noStrike">
                <a:solidFill>
                  <a:srgbClr val="00b050"/>
                </a:solidFill>
                <a:latin typeface="Tw Cen MT"/>
              </a:rPr>
              <a:t>PROS</a:t>
            </a:r>
            <a:endParaRPr b="0" lang="en-US" sz="4400" spc="-1" strike="noStrike">
              <a:solidFill>
                <a:srgbClr val="775f55"/>
              </a:solidFill>
              <a:latin typeface="Tw Cen MT"/>
            </a:endParaRPr>
          </a:p>
        </p:txBody>
      </p:sp>
      <p:sp>
        <p:nvSpPr>
          <p:cNvPr id="382"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imple verbal praise ifrom both teachers and peers s shown to have a more lasting effect than tangible rewards which have become very popular (Gable, Hester, Rock &amp; Hughes 2009; Storemont, Smith &amp; Lewis 2007; Peterson-Nelson, Caldarella, Young &amp; Webb 2008).</a:t>
            </a:r>
            <a:endParaRPr b="0" lang="en-US" sz="18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TR allows children to voice their thoughts about a lesson during and after the lesson occurs. So that the teacher has a better way to tailor to their interests ( Moore,- Partin, Robertson, Maggin, Oliver, &amp; Wheby, 2010).</a:t>
            </a:r>
            <a:endParaRPr b="0" lang="en-US" sz="18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onfusing the student who is already motivated or even worse motivated to learn by cultural/social norms may damage the intrinsic drive ( Wang &amp; Guthrie 2004; Gratier, Greenfield, &amp; Isaac 2009). </a:t>
            </a:r>
            <a:endParaRPr b="0" lang="en-US" sz="18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ositive Reinforcement and Praise  shows a child that their actions are valued and meaningful. It keeps them from becoming solely dependent on immediate gratification . (Sigler,&amp; Aamidor 2005; Trolinder, Choi, &amp; Proctor 2004; Lannie &amp; McCurdy 2007; Morrison &amp; Jones 2006). </a:t>
            </a:r>
            <a:endParaRPr b="0" lang="en-US" sz="18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8:42:13Z</dcterms:created>
  <dc:creator>cafe</dc:creator>
  <dc:description/>
  <dc:language>en-US</dc:language>
  <cp:lastModifiedBy>Valued Acer Customer</cp:lastModifiedBy>
  <dcterms:modified xsi:type="dcterms:W3CDTF">2010-12-07T06:46:27Z</dcterms:modified>
  <cp:revision>33</cp:revision>
  <dc:subject/>
  <dc:title>effects of rewards and incentives on intrinsic motivation of students</dc:title>
</cp:coreProperties>
</file>